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92DD-C236-40B2-A21A-23C9A10D3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7437-4C9F-4B57-9348-E7ABE4F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C71A-3344-4C8E-B00D-0D2DD7E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834E-4791-4DBA-9AD0-E84C93CF4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6F32-7491-42E6-8A97-DD3DAD2B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760E-899F-4215-AAC5-B573905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CC00-6571-425E-8EA7-9BD44EA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BFC9-107B-45B3-93DE-62D3231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3C80-F792-4106-A361-90F69319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6786-DD00-466E-8182-8DF306E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FAC3-79FE-48E1-AE7E-4408A29E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2F4E-1B06-44BC-9B6B-4C3543DD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B590B1-918B-4F68-BC4F-C6038978C1F8}" type="datetime">
              <a:rPr b="0" lang="fr-FR" sz="18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A2967B-C91D-455F-A2ED-42DD259EABDD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685800" y="609480"/>
            <a:ext cx="4952880" cy="1219320"/>
          </a:xfrm>
          <a:prstGeom prst="rect">
            <a:avLst/>
          </a:prstGeom>
          <a:solidFill>
            <a:srgbClr val="4f81bd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162240" y="990720"/>
            <a:ext cx="4953240" cy="1218960"/>
          </a:xfrm>
          <a:prstGeom prst="rect">
            <a:avLst/>
          </a:prstGeom>
          <a:solidFill>
            <a:srgbClr val="c3d69b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486080" y="838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HERCHE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191120" y="12733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'INTR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8600" y="2819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dont vous dispose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23880" y="3170160"/>
            <a:ext cx="52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6 rectangles numéroté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règle gradué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calculat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feuille de papier blan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feuille de papier millimétré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feuille de papier calq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49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e que vous devez fai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562040" y="5324400"/>
            <a:ext cx="62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mi les 6 rectangles, il y a un intru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us devez le découvrir et expliquer avec précision sur la feuille blanche comment vous avez fai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609480"/>
            <a:ext cx="4952880" cy="1219320"/>
          </a:xfrm>
          <a:prstGeom prst="rect">
            <a:avLst/>
          </a:prstGeom>
          <a:solidFill>
            <a:srgbClr val="4f81bd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3162240" y="990720"/>
            <a:ext cx="4953240" cy="1218960"/>
          </a:xfrm>
          <a:prstGeom prst="rect">
            <a:avLst/>
          </a:prstGeom>
          <a:solidFill>
            <a:srgbClr val="c3d69b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486080" y="838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ON 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191120" y="12733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MMAN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2971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ntenant que vous avez trouvé l’intrus, vous allez le remplacer par un rectangle de la même famille. Vous devez  faire tracer ce rectangle par un autre group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80880" y="43434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rédigez votre commande sur la feuille « bon de commande »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5315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10253f"/>
                </a:solidFill>
                <a:latin typeface="Calibri"/>
              </a:rPr>
              <a:t>P.S.   VOUS N’AVEZ PAS LE DROIT DE DONNER LES DIMENSIONS DU RECTANG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0T08:35:15Z</dcterms:created>
  <dc:creator>Guillaume FRANCOIS</dc:creator>
  <dc:description/>
  <cp:keywords/>
  <dc:language>en-US</dc:language>
  <cp:lastModifiedBy>JEAN FROMENTIN</cp:lastModifiedBy>
  <dcterms:modified xsi:type="dcterms:W3CDTF">2016-07-29T17:05:14Z</dcterms:modified>
  <cp:revision>11</cp:revision>
  <dc:subject/>
  <dc:title>Diapositive 1</dc:title>
</cp:coreProperties>
</file>