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84760" y="0"/>
            <a:ext cx="297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FE2F8-ED71-4D9A-98CF-52C9F221FA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1A43B-6C2E-46B6-8E8D-5678000273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070E0-E754-4D1C-8CF5-D7BEDA45CE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38CCC-0B5E-4300-98E9-B6BC9FAE90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C13A5-25C0-41B0-9A80-30830D4246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9311A-314F-4E5B-BE5B-ECF7C0D0D5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45364-6530-4CE1-9F02-B0011EC6BE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584E0-7F71-4541-8EE3-0AC1223A70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17A54-E931-4B0C-8173-94B6542D92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C40D6-2520-424C-9AD4-BB50F01C97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2D9C4-E955-4C4F-9B63-63BF7B0685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F1F58-CB34-47F7-B870-E73714860B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6885B-FD63-41DC-8444-AC110B2BDC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12629-59CE-40DB-9371-C3066B3C84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BC784-7A08-4FE4-86EC-68148D37F0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B7CF8-B326-4B5F-A5EE-161AEB7C4E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40C04-D9DC-489F-8914-E8B0F23FC5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0A84C-EF94-4272-B75C-182C86CB4ED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76489-319A-470B-9FF9-64D68DCFC1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E14FB-3799-40FF-8F29-F74386B6AA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6A6FA-7E99-4120-9A33-FE4E8212F8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80561-5AE9-4A9B-8D69-28A664698F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0B80E-DFDF-4900-8CA2-985A9FB55C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2F451-D36C-451B-BBD8-46755C58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4ADF-AF5B-438D-B920-3006CA91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79C76-A8A2-4D40-90DE-BF6F3167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D4691-F47C-487A-95EB-65A75EF5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F9C6-535D-4F4B-B156-2B00274C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CA45-5128-4E68-A1B8-303EF90E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9000-D22C-445E-820F-C68F1932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B499-FED9-4BAF-9486-2DBC94C7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8666-FACC-44E4-BC71-2CDFD2E1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D020-A619-4E15-AC6D-0D954A43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384F-C0A8-496C-A873-FCF7C21B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1E8E9-0903-45D9-BF72-A40B96DC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E3A1-108B-41EF-A1BC-D770ABCB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1749-2591-488D-BE2E-E4938AAB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628D-4F25-4A25-A512-47851C19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506E-FD62-4252-9E6E-CFE05119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34D7-C011-473E-AD47-6593347E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D26C8-4986-4740-B734-6449CF45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8B0C-6AB4-4C87-A319-AD6A7938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21B5B-D7B3-4792-BF42-247A3FF6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F80C9-1349-4419-B1DA-D0392848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70B57-752A-4F67-A940-EEFD9995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F8857-D15C-4571-BBE9-CE8C660F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8DED8-30FD-4AA6-81C9-147557EE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60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11/12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320E6-8944-4410-A2AF-0438A0AFD0C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3" name="Group 4"/>
            <p:cNvGrpSpPr/>
            <p:nvPr/>
          </p:nvGrpSpPr>
          <p:grpSpPr>
            <a:xfrm>
              <a:off x="2742480" y="3540240"/>
              <a:ext cx="6390000" cy="3308400"/>
              <a:chOff x="2742480" y="3540240"/>
              <a:chExt cx="6390000" cy="330840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2480" y="4196880"/>
                <a:ext cx="457308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17520" y="4239720"/>
                <a:ext cx="1997280" cy="12870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1880" y="5310720"/>
                <a:ext cx="4520880" cy="153756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1040" y="3540240"/>
                <a:ext cx="477144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2760" y="3677760"/>
                <a:ext cx="1980000" cy="85500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2560" y="2128680"/>
              <a:ext cx="289656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0" y="0"/>
              <a:ext cx="913932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51" name="Group 2"/>
            <p:cNvGrpSpPr/>
            <p:nvPr/>
          </p:nvGrpSpPr>
          <p:grpSpPr>
            <a:xfrm>
              <a:off x="2742480" y="3540240"/>
              <a:ext cx="6390000" cy="3308400"/>
              <a:chOff x="2742480" y="3540240"/>
              <a:chExt cx="6390000" cy="330840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2742480" y="4196880"/>
                <a:ext cx="457308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4"/>
              <p:cNvSpPr/>
              <p:nvPr/>
            </p:nvSpPr>
            <p:spPr>
              <a:xfrm>
                <a:off x="6617520" y="4239720"/>
                <a:ext cx="1997280" cy="12870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"/>
              <p:cNvSpPr/>
              <p:nvPr/>
            </p:nvSpPr>
            <p:spPr>
              <a:xfrm>
                <a:off x="4601880" y="5310720"/>
                <a:ext cx="4520880" cy="153756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4361040" y="3540240"/>
                <a:ext cx="477144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7142760" y="3677760"/>
                <a:ext cx="1980000" cy="85500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5272560" y="2128680"/>
              <a:ext cx="289656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913932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096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11/12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960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320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94F0BFB-3731-483C-A02A-D4DC9E92330D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ce réservé du numéro de diapositive 2"/>
          <p:cNvSpPr/>
          <p:nvPr/>
        </p:nvSpPr>
        <p:spPr>
          <a:xfrm>
            <a:off x="655308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C2B9C-465A-4B7C-8C22-4936F1446C7F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0" y="76320"/>
            <a:ext cx="91440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8be1ff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8be1ff"/>
                </a:solidFill>
                <a:latin typeface="Calibri"/>
              </a:rPr>
              <a:t>Institutionnalisation et inventaire des techniques relatives à un type de tâches/problè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52280" y="1235160"/>
            <a:ext cx="876312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">
              <a:lnSpc>
                <a:spcPct val="100000"/>
              </a:lnSpc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eu d’élèves sont capables de créer les liens entre les différentes phases d’institutionnalisation qui sont relatives au même type de tâches ou au même type de problèm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 quel type de tâches ou de problèmes la connaissance ou la capacité découverte/travaillée répond-ell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Quelles sont les autres connaissances ou capacités répondant au même type de tâches ou de problèmes que nous connaissions ? Lesquelles doit-on garder en mémoire (« agrégation »)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oit-on les hiérarchiser (« ordonnancement »)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réponses à ces questions ne peuvent être laissées à l’initiative (ou à la charge) individuelle des élèves, c’est le collectif « classe – professeur » qui doit y répondre dans le cadre des phases d’institutionnalis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C523D-2AA3-4B7A-9478-F944D5CD77AE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0" y="76320"/>
            <a:ext cx="91440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8be1ff"/>
                </a:solidFill>
                <a:latin typeface="Calibri"/>
              </a:rPr>
              <a:t>Institutionnalisation et inventaire des techniques relatives à un type de tâches/problè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Ellipse 1"/>
          <p:cNvSpPr/>
          <p:nvPr/>
        </p:nvSpPr>
        <p:spPr>
          <a:xfrm>
            <a:off x="3564000" y="3573360"/>
            <a:ext cx="1871640" cy="1656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acer une dro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Connecteur droit avec flèche 3"/>
          <p:cNvCxnSpPr>
            <a:stCxn id="142" idx="0"/>
          </p:cNvCxnSpPr>
          <p:nvPr/>
        </p:nvCxnSpPr>
        <p:spPr>
          <a:xfrm flipV="1">
            <a:off x="4500360" y="2852280"/>
            <a:ext cx="935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4" name="Rectangle à coins arrondis 4"/>
          <p:cNvSpPr/>
          <p:nvPr/>
        </p:nvSpPr>
        <p:spPr>
          <a:xfrm>
            <a:off x="5452920" y="2313000"/>
            <a:ext cx="3097440" cy="90000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assant par 2 poi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Connaître 2 points de cette dro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" name="Connecteur droit avec flèche 6"/>
          <p:cNvCxnSpPr>
            <a:stCxn id="142" idx="1"/>
          </p:cNvCxnSpPr>
          <p:nvPr/>
        </p:nvCxnSpPr>
        <p:spPr>
          <a:xfrm flipH="1" flipV="1">
            <a:off x="2700000" y="3572640"/>
            <a:ext cx="113904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" name="Rectangle à coins arrondis 7"/>
          <p:cNvSpPr/>
          <p:nvPr/>
        </p:nvSpPr>
        <p:spPr>
          <a:xfrm>
            <a:off x="152280" y="2762280"/>
            <a:ext cx="2548080" cy="189072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assant par un point et formant un angle connu avec une autre dro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Connaître un point et l’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Connecteur droit avec flèche 9"/>
          <p:cNvCxnSpPr>
            <a:stCxn id="142" idx="3"/>
          </p:cNvCxnSpPr>
          <p:nvPr/>
        </p:nvCxnSpPr>
        <p:spPr>
          <a:xfrm flipH="1">
            <a:off x="2987280" y="4986000"/>
            <a:ext cx="851760" cy="74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" name="Rectangle à coins arrondis 10"/>
          <p:cNvSpPr/>
          <p:nvPr/>
        </p:nvSpPr>
        <p:spPr>
          <a:xfrm>
            <a:off x="152280" y="4986360"/>
            <a:ext cx="2835360" cy="161136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assant par un point et parallèle à une dro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Connaître un point et la droite parallè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Connecteur droit avec flèche 12"/>
          <p:cNvCxnSpPr>
            <a:stCxn id="142" idx="6"/>
          </p:cNvCxnSpPr>
          <p:nvPr/>
        </p:nvCxnSpPr>
        <p:spPr>
          <a:xfrm>
            <a:off x="5435640" y="4400280"/>
            <a:ext cx="72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" name="Rectangle à coins arrondis 13"/>
          <p:cNvSpPr/>
          <p:nvPr/>
        </p:nvSpPr>
        <p:spPr>
          <a:xfrm>
            <a:off x="6156360" y="3573360"/>
            <a:ext cx="2519280" cy="178596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Image d’une droite par une transform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Connaître la droite d’origine et la transformation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A145B-5111-489C-B3C2-6AA0EFFA3C9D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0" y="76320"/>
            <a:ext cx="91440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8be1ff"/>
                </a:solidFill>
                <a:latin typeface="Calibri"/>
              </a:rPr>
              <a:t>Institutionnalisation et inventaire des techniques relatives à un type de tâches/problè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Ellipse 1"/>
          <p:cNvSpPr/>
          <p:nvPr/>
        </p:nvSpPr>
        <p:spPr>
          <a:xfrm>
            <a:off x="3564000" y="3573360"/>
            <a:ext cx="1871640" cy="1656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acer un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à coins arrondis 4"/>
          <p:cNvSpPr/>
          <p:nvPr/>
        </p:nvSpPr>
        <p:spPr>
          <a:xfrm>
            <a:off x="5435640" y="2060640"/>
            <a:ext cx="3097080" cy="151272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ur une droite, à une distance connue d’un point de la dro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Connaître la distance et la dro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5" name="Connecteur droit avec flèche 6"/>
          <p:cNvCxnSpPr>
            <a:stCxn id="153" idx="1"/>
            <a:endCxn id="156" idx="3"/>
          </p:cNvCxnSpPr>
          <p:nvPr/>
        </p:nvCxnSpPr>
        <p:spPr>
          <a:xfrm flipH="1">
            <a:off x="3412800" y="3816360"/>
            <a:ext cx="4262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Rectangle à coins arrondis 7"/>
          <p:cNvSpPr/>
          <p:nvPr/>
        </p:nvSpPr>
        <p:spPr>
          <a:xfrm>
            <a:off x="1569960" y="3475080"/>
            <a:ext cx="1843200" cy="125244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ilieu d’un seg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Savoir qu’on a un milie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à coins arrondis 10"/>
          <p:cNvSpPr/>
          <p:nvPr/>
        </p:nvSpPr>
        <p:spPr>
          <a:xfrm>
            <a:off x="4378320" y="5826240"/>
            <a:ext cx="2835360" cy="103500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Intersection de 2 obj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Connaître les deux obj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à coins arrondis 13"/>
          <p:cNvSpPr/>
          <p:nvPr/>
        </p:nvSpPr>
        <p:spPr>
          <a:xfrm>
            <a:off x="6156360" y="3946680"/>
            <a:ext cx="2519280" cy="156996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Image d’un point par une transform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Connaître le point d’origine et la transformation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646360" y="2209680"/>
            <a:ext cx="1533600" cy="954360"/>
          </a:xfrm>
          <a:prstGeom prst="rect">
            <a:avLst/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Partager un segment. 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Connaître la longueur du seg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0" y="2762280"/>
            <a:ext cx="1389240" cy="1413000"/>
          </a:xfrm>
          <a:prstGeom prst="rect">
            <a:avLst/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ppliquer le théorème des milieu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Connaître un triangle, un milieu, une parallè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55440" y="5124600"/>
            <a:ext cx="1657440" cy="1184040"/>
          </a:xfrm>
          <a:prstGeom prst="rect">
            <a:avLst/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racer l’intersection de 2 diagonales d’un parallélogramm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Connaître les 2 diagona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1967040" y="5124600"/>
            <a:ext cx="1357200" cy="1184040"/>
          </a:xfrm>
          <a:prstGeom prst="rect">
            <a:avLst/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Intersection d’une médiatrice et d’un seg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Connaître le seg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Connecteur droit avec flèche 23"/>
          <p:cNvCxnSpPr>
            <a:stCxn id="156" idx="2"/>
            <a:endCxn id="162" idx="0"/>
          </p:cNvCxnSpPr>
          <p:nvPr/>
        </p:nvCxnSpPr>
        <p:spPr>
          <a:xfrm>
            <a:off x="2490840" y="4727160"/>
            <a:ext cx="155880" cy="397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4" name="Connecteur droit avec flèche 25"/>
          <p:cNvCxnSpPr>
            <a:stCxn id="156" idx="1"/>
            <a:endCxn id="160" idx="3"/>
          </p:cNvCxnSpPr>
          <p:nvPr/>
        </p:nvCxnSpPr>
        <p:spPr>
          <a:xfrm flipH="1" flipV="1">
            <a:off x="1388880" y="3468240"/>
            <a:ext cx="181440" cy="634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5" name="Connecteur droit avec flèche 27"/>
          <p:cNvCxnSpPr>
            <a:stCxn id="156" idx="0"/>
            <a:endCxn id="159" idx="1"/>
          </p:cNvCxnSpPr>
          <p:nvPr/>
        </p:nvCxnSpPr>
        <p:spPr>
          <a:xfrm flipV="1">
            <a:off x="2490840" y="2687040"/>
            <a:ext cx="155880" cy="788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6" name="Connecteur droit avec flèche 43"/>
          <p:cNvCxnSpPr>
            <a:stCxn id="156" idx="1"/>
            <a:endCxn id="161" idx="0"/>
          </p:cNvCxnSpPr>
          <p:nvPr/>
        </p:nvCxnSpPr>
        <p:spPr>
          <a:xfrm flipH="1">
            <a:off x="883440" y="4102200"/>
            <a:ext cx="686520" cy="1023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7" name="Connecteur droit avec flèche 45"/>
          <p:cNvCxnSpPr>
            <a:stCxn id="153" idx="7"/>
            <a:endCxn id="154" idx="1"/>
          </p:cNvCxnSpPr>
          <p:nvPr/>
        </p:nvCxnSpPr>
        <p:spPr>
          <a:xfrm flipV="1">
            <a:off x="5162040" y="2815920"/>
            <a:ext cx="27396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Connecteur droit avec flèche 47"/>
          <p:cNvCxnSpPr>
            <a:stCxn id="153" idx="6"/>
            <a:endCxn id="158" idx="1"/>
          </p:cNvCxnSpPr>
          <p:nvPr/>
        </p:nvCxnSpPr>
        <p:spPr>
          <a:xfrm>
            <a:off x="5435640" y="4400280"/>
            <a:ext cx="721440" cy="3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9" name="Connecteur droit avec flèche 49"/>
          <p:cNvCxnSpPr>
            <a:stCxn id="153" idx="4"/>
            <a:endCxn id="157" idx="0"/>
          </p:cNvCxnSpPr>
          <p:nvPr/>
        </p:nvCxnSpPr>
        <p:spPr>
          <a:xfrm>
            <a:off x="4500720" y="5229360"/>
            <a:ext cx="1296000" cy="59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strips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0" y="76320"/>
            <a:ext cx="91440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8be1ff"/>
                </a:solidFill>
                <a:latin typeface="Calibri"/>
              </a:rPr>
              <a:t>Institutionnalisation et inventaire des techniques relatives à un type de tâches/problè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40" y="981000"/>
            <a:ext cx="33642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Un exemple en 3</a:t>
            </a:r>
            <a:r>
              <a:rPr b="0" lang="fr-FR" sz="2000" spc="-1" strike="noStrike" baseline="30000">
                <a:solidFill>
                  <a:srgbClr val="ffffff"/>
                </a:solidFill>
                <a:latin typeface="Calibri"/>
              </a:rPr>
              <a:t>ème 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Un inventaire des techniques relatives au type de tâches « montrer que deux droites sont parallèles réalisé sous forme de carte mentale à la fin d’un chapitre s’intitulant « Démontrer que des droites sont parallèles » et ayant permis de remobiliser les propriétés sur les angles et le parallélisme, le théorème des milieux, les propriétés des quadrilatères particuliers et de découvrir la réciproque du théorème de Thalè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463920" y="981000"/>
            <a:ext cx="4975200" cy="5877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0" y="76320"/>
            <a:ext cx="91440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8be1ff"/>
                </a:solidFill>
                <a:latin typeface="Calibri"/>
              </a:rPr>
              <a:t>Institutionnalisation et inventaire des techniques relatives à un type de tâches/problè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55440" y="981000"/>
            <a:ext cx="8763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’utilisation possible d’un logiciel de cartes heuristiques pour réaliser des cartes mentales avec les élèv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55440" y="1854360"/>
            <a:ext cx="8963280" cy="4095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0" y="76320"/>
            <a:ext cx="91440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8be1ff"/>
                </a:solidFill>
                <a:latin typeface="Calibri"/>
              </a:rPr>
              <a:t>Institutionnalisation et inventaire des techniques relatives à un type de tâches/problè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55440" y="981000"/>
            <a:ext cx="8763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’utilisation possible d’un logiciel de cartes heuristiques pour réaliser des cartes mentales avec les élèv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0" y="2379600"/>
            <a:ext cx="9144000" cy="3154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0" y="76320"/>
            <a:ext cx="91440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8be1ff"/>
                </a:solidFill>
                <a:latin typeface="Calibri"/>
              </a:rPr>
              <a:t>Institutionnalisation et inventaire des techniques relatives à un type de tâches/problè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55440" y="981000"/>
            <a:ext cx="8763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’utilisation possible d’un logiciel de cartes heuristiques pour réaliser des cartes mentales avec les élèv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Image 1" descr=""/>
          <p:cNvPicPr/>
          <p:nvPr/>
        </p:nvPicPr>
        <p:blipFill>
          <a:blip r:embed="rId1"/>
          <a:stretch/>
        </p:blipFill>
        <p:spPr>
          <a:xfrm>
            <a:off x="0" y="2009880"/>
            <a:ext cx="9144000" cy="3651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0" y="76320"/>
            <a:ext cx="91440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8be1ff"/>
                </a:solidFill>
                <a:latin typeface="Calibri"/>
              </a:rPr>
              <a:t>Institutionnalisation et inventaire des techniques relatives à un type de tâches/problè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55440" y="981000"/>
            <a:ext cx="8763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’utilisation possible d’un logiciel de cartes heuristiques pour réaliser des cartes mentales avec les élèv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Image 2" descr=""/>
          <p:cNvPicPr/>
          <p:nvPr/>
        </p:nvPicPr>
        <p:blipFill>
          <a:blip r:embed="rId1"/>
          <a:stretch/>
        </p:blipFill>
        <p:spPr>
          <a:xfrm>
            <a:off x="0" y="2070000"/>
            <a:ext cx="9144000" cy="3807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0" y="76320"/>
            <a:ext cx="91440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8be1ff"/>
                </a:solidFill>
                <a:latin typeface="Calibri"/>
              </a:rPr>
              <a:t>Institutionnalisation et inventaire des types de tâ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55440" y="981000"/>
            <a:ext cx="8763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’utilisation possible d’un logiciel de cartes heuristiques pour les types de tâ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Image 1" descr=""/>
          <p:cNvPicPr/>
          <p:nvPr/>
        </p:nvPicPr>
        <p:blipFill>
          <a:blip r:embed="rId1"/>
          <a:stretch/>
        </p:blipFill>
        <p:spPr>
          <a:xfrm>
            <a:off x="0" y="194472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96D0E-FB0E-4B76-9AC0-A8C1F3761FB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0" y="76320"/>
            <a:ext cx="91440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8be1ff"/>
                </a:solidFill>
                <a:latin typeface="Calibri"/>
              </a:rPr>
              <a:t>Institutionnalisation et inventaire des techniques relatives à un type de tâches/problè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52280" y="1700280"/>
            <a:ext cx="8763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">
              <a:lnSpc>
                <a:spcPct val="100000"/>
              </a:lnSpc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Pourquoi et comment une institutionnalisation par type de tâches ou de problèmes peut aider les élèves à raisonner notamment par chaînage arrièr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51444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Font typeface="Arial"/>
              <a:buChar char="•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Ex : ABCD est un parallélogramme, tracer la droite (AC)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191040" y="3780000"/>
            <a:ext cx="2685960" cy="2035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0B9B7-9655-4DA2-A438-1FE902A4CC1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0" y="76320"/>
            <a:ext cx="91440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8be1ff"/>
                </a:solidFill>
                <a:latin typeface="Calibri"/>
              </a:rPr>
              <a:t>Institutionnalisation et inventaire des techniques relatives à un type de tâches/problè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152280" y="987480"/>
            <a:ext cx="8763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76240" indent="-51444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Font typeface="Arial"/>
              <a:buChar char="•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Ex : ABCD est un parallélogramm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racer la droite (AC)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51444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Font typeface="Arial"/>
              <a:buChar char="•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Quel est le type de problèm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51444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Font typeface="Arial"/>
              <a:buChar char="•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51444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Font typeface="Arial"/>
              <a:buChar char="•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Quel est la type de tâche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51444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Font typeface="Arial"/>
              <a:buChar char="•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6540480" y="833400"/>
            <a:ext cx="1908360" cy="1446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34920" y="3860640"/>
            <a:ext cx="88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76240" indent="-51444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Quelles sont les techniques permettant de tracer une droite et les conditions suffisantes pour pouvoir les utiliser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556200" y="3284640"/>
            <a:ext cx="28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61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racer une droi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95280" y="2349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onstruire ou reproduire une figure astreinte à des condi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9:42:15Z</dcterms:created>
  <dc:creator>Guilhem Deulofeu et Jean-Pierre Terran</dc:creator>
  <dc:description/>
  <dc:language>en-US</dc:language>
  <cp:lastModifiedBy>Guilhem</cp:lastModifiedBy>
  <dcterms:modified xsi:type="dcterms:W3CDTF">2013-06-03T07:51:13Z</dcterms:modified>
  <cp:revision>166</cp:revision>
  <dc:subject/>
  <dc:title>ENSEIGNER LES MATHEMATIQUES EN R.A.R.</dc:title>
</cp:coreProperties>
</file>